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23.gif" ContentType="image/gif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2.gif" ContentType="image/gif"/>
  <Override PartName="/ppt/media/image15.png" ContentType="image/png"/>
  <Override PartName="/ppt/media/image16.jpeg" ContentType="image/jpeg"/>
  <Override PartName="/ppt/media/image39.gif" ContentType="image/gif"/>
  <Override PartName="/ppt/media/image17.png" ContentType="image/png"/>
  <Override PartName="/ppt/media/image14.gif" ContentType="image/gif"/>
  <Override PartName="/ppt/media/image31.jpeg" ContentType="image/jpeg"/>
  <Override PartName="/ppt/media/image1.png" ContentType="image/png"/>
  <Override PartName="/ppt/media/image30.png" ContentType="image/png"/>
  <Override PartName="/ppt/media/image25.gif" ContentType="image/gif"/>
  <Override PartName="/ppt/media/image32.gif" ContentType="image/gif"/>
  <Override PartName="/ppt/media/image33.png" ContentType="image/png"/>
  <Override PartName="/ppt/media/image5.gif" ContentType="image/gif"/>
  <Override PartName="/ppt/media/image38.gif" ContentType="image/gif"/>
  <Override PartName="/ppt/media/image41.gif" ContentType="image/gif"/>
  <Override PartName="/ppt/media/image34.png" ContentType="image/png"/>
  <Override PartName="/ppt/media/image44.png" ContentType="image/png"/>
  <Override PartName="/ppt/media/image40.jpeg" ContentType="image/jpeg"/>
  <Override PartName="/ppt/media/image35.png" ContentType="image/png"/>
  <Override PartName="/ppt/media/image42.gif" ContentType="image/gif"/>
  <Override PartName="/ppt/media/image46.png" ContentType="image/png"/>
  <Override PartName="/ppt/media/image43.gif" ContentType="image/gif"/>
  <Override PartName="/ppt/media/image9.jpeg" ContentType="image/jpeg"/>
  <Override PartName="/ppt/media/image11.png" ContentType="image/png"/>
  <Override PartName="/ppt/media/image47.png" ContentType="image/png"/>
  <Override PartName="/ppt/media/image13.png" ContentType="image/png"/>
  <Override PartName="/ppt/media/image10.gif" ContentType="image/gif"/>
  <Override PartName="/ppt/media/image8.jpeg" ContentType="image/jpeg"/>
  <Override PartName="/ppt/media/image45.gif" ContentType="image/gif"/>
  <Override PartName="/ppt/media/image12.gif" ContentType="image/gif"/>
  <Override PartName="/ppt/media/image24.jpeg" ContentType="image/jpeg"/>
  <Override PartName="/ppt/media/image29.jpeg" ContentType="image/jpeg"/>
  <Override PartName="/ppt/media/image7.gif" ContentType="image/gif"/>
  <Override PartName="/ppt/media/image37.gif" ContentType="image/gif"/>
  <Override PartName="/ppt/media/image6.gif" ContentType="image/gif"/>
  <Override PartName="/ppt/media/image36.gif" ContentType="image/gi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9AC-2F86-4DA1-B544-14B682F6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7F1-0FA9-455B-82F5-37EB5594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E7D-6F4C-4414-876C-44DE0E88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548-AFA3-4F50-9FC9-9D9875E3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00EA-406E-4081-9E5A-21148D63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928A-48CF-4D7C-BBF4-040DCE62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6AB5-6982-43EA-83F5-B48C51D7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264B-E0CD-4AFA-96E1-F52608FD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E7DF-93F8-4C00-BDE8-0C43553C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780F-6C2C-4353-AE4A-5F3CFCA9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50F1-217E-4A7E-AF30-8A5CBA69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A10-E6AD-4135-B1B4-2D57890F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4046-79A6-4115-A028-8B1B0F03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8C29-9850-4807-8BC7-A2FEBF98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C4C2-0A3E-48FB-A717-5947D0A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6FEF-8E8C-48C0-8E6B-F8142A20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0A25-6016-461F-965E-299A65A3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534-40E1-4BC1-8C67-9A0E4406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88A-05E3-4C57-8312-115A5DA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74E-9C27-4E48-9D60-D913462E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21B-F30A-4A3B-9435-94D31FCB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7A8-65A4-4355-B6AC-9D41FA8E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9D5-635F-47C7-9A73-FC41A5B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2D9-8576-4859-98E4-FD12EE4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9346-53CC-4C07-A2A7-09F5C4DFF57E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63E6-51EC-4CEE-962E-9EA47FA5D214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png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4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5.png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aol.ca/redir?urn=http://z.about.com/d/geology/1/0/U/A/1/gold500.jpg&amp;rank=%20&amp;source=googleImage&amp;searchType=IS&amp;partner=Google&amp;query=gold%20nugget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6.gif"/><Relationship Id="rId5" Type="http://schemas.openxmlformats.org/officeDocument/2006/relationships/image" Target="../media/image10.gi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Convection.gif" TargetMode="External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gif"/><Relationship Id="rId3" Type="http://schemas.openxmlformats.org/officeDocument/2006/relationships/image" Target="../media/image10.gif"/><Relationship Id="rId4" Type="http://schemas.openxmlformats.org/officeDocument/2006/relationships/image" Target="../media/image37.gif"/><Relationship Id="rId5" Type="http://schemas.openxmlformats.org/officeDocument/2006/relationships/hyperlink" Target="http://en.wikipedia.org/wiki/Image:Convection.gif" TargetMode="External"/><Relationship Id="rId6" Type="http://schemas.openxmlformats.org/officeDocument/2006/relationships/image" Target="../media/image38.gif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Metrics &amp; Density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4038480" cy="29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Me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____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86600" y="2514600"/>
            <a:ext cx="2057400" cy="358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30481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Gra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gram is used to measure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ss is a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895840" cy="24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the Gram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647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is used to measure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s a measure how much _____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nd mass by weigh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895480" cy="241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934320" y="3200400"/>
            <a:ext cx="198108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373392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90720" y="99072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Li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liter is used to measure Volu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lume is how much space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5791320"/>
            <a:ext cx="2133720" cy="6094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048120"/>
            <a:ext cx="1143000" cy="2971800"/>
          </a:xfrm>
          <a:prstGeom prst="can">
            <a:avLst>
              <a:gd name="adj" fmla="val 111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4343400"/>
            <a:ext cx="1143000" cy="1676520"/>
          </a:xfrm>
          <a:prstGeom prst="can">
            <a:avLst>
              <a:gd name="adj" fmla="val 1979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172200" y="3505320"/>
            <a:ext cx="762120" cy="2374920"/>
            <a:chOff x="6172200" y="3505320"/>
            <a:chExt cx="762120" cy="2374920"/>
          </a:xfrm>
        </p:grpSpPr>
        <p:sp>
          <p:nvSpPr>
            <p:cNvPr id="263" name=""/>
            <p:cNvSpPr/>
            <p:nvPr/>
          </p:nvSpPr>
          <p:spPr>
            <a:xfrm>
              <a:off x="6172200" y="52102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72200" y="46926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72200" y="41752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36576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2200" y="3657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72200" y="4175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72200" y="4692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72200" y="52102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5727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3657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34320" y="3657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175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4175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2200" y="4692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34320" y="46926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2200" y="5210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34320" y="52102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72200" y="50576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2200" y="45403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2200" y="40226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72200" y="35053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2200" y="350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022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2200" y="4540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72200" y="50576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2200" y="5575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72200" y="3505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505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2200" y="4022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4320" y="4022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72200" y="4540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4320" y="45403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72200" y="5057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34320" y="50576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2200" y="536256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72200" y="48448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72200" y="432756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72200" y="38098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3809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72200" y="4327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72200" y="484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72200" y="5362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72200" y="58802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2200" y="3809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34320" y="3809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72200" y="43275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4320" y="43275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72200" y="4844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34320" y="48448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53625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4320" y="53625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267080" y="4191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a Liter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 is used to measure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is how much _____ an object uses up</a:t>
            </a: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7120" y="3048120"/>
            <a:ext cx="2133360" cy="3657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886200" y="6248520"/>
            <a:ext cx="2057400" cy="6094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3505320"/>
            <a:ext cx="1143000" cy="2971800"/>
          </a:xfrm>
          <a:prstGeom prst="can">
            <a:avLst>
              <a:gd name="adj" fmla="val 1111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4800600"/>
            <a:ext cx="1143000" cy="1676520"/>
          </a:xfrm>
          <a:prstGeom prst="can">
            <a:avLst>
              <a:gd name="adj" fmla="val 1979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43400" y="3962520"/>
            <a:ext cx="762120" cy="2374920"/>
            <a:chOff x="4343400" y="3962520"/>
            <a:chExt cx="762120" cy="2374920"/>
          </a:xfrm>
        </p:grpSpPr>
        <p:sp>
          <p:nvSpPr>
            <p:cNvPr id="324" name=""/>
            <p:cNvSpPr/>
            <p:nvPr/>
          </p:nvSpPr>
          <p:spPr>
            <a:xfrm>
              <a:off x="4343400" y="56674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3400" y="51498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3400" y="463248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411480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400" y="4114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43400" y="4632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5149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3400" y="5667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3400" y="6184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43400" y="4114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4114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400" y="4632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4632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43400" y="5149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05520" y="514980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3400" y="5667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5520" y="566748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55148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9975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400" y="447984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3400" y="396252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43400" y="3962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4798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3400" y="4997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55148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3400" y="6032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43400" y="3962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05520" y="3962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4479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05520" y="4479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3400" y="4997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5520" y="499752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43400" y="5514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5520" y="551484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3400" y="581976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43400" y="53020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43400" y="4784760"/>
              <a:ext cx="762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43400" y="4267080"/>
              <a:ext cx="762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3400" y="4267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4784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43400" y="5302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43400" y="5819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3400" y="63374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3400" y="4267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05520" y="4267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3400" y="47847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05520" y="478476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3400" y="5302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05520" y="53020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43400" y="58197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05520" y="58197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438280" y="4648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43000" y="228600"/>
          <a:ext cx="3825720" cy="6496200"/>
        </p:xfrm>
        <a:graphic>
          <a:graphicData uri="http://schemas.openxmlformats.org/drawingml/2006/table">
            <a:tbl>
              <a:tblPr/>
              <a:tblGrid>
                <a:gridCol w="20541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Rockwell Extra Bold"/>
                          <a:ea typeface="Times New Roman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Kilo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Hecto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ka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eter, Gram, Lite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Deci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Cent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 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ff"/>
                          </a:solidFill>
                          <a:latin typeface="Perpetua"/>
                          <a:ea typeface="Times New Roman"/>
                        </a:rPr>
                        <a:t>Milli-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1/1000 </a:t>
                      </a:r>
                      <a:r>
                        <a:rPr b="0" i="1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or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00"/>
                          </a:solidFill>
                          <a:latin typeface="Perpetua"/>
                          <a:ea typeface="Times New Roman"/>
                        </a:rPr>
                        <a:t>0.001</a:t>
                      </a:r>
                      <a:endParaRPr b="0" lang="en-US" sz="23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598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990720"/>
            <a:ext cx="3276720" cy="3200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ic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is 10 tim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r 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 times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 Black"/>
              </a:rPr>
              <a:t>Metric Step Ladder</a:t>
            </a:r>
            <a:endParaRPr b="0" lang="en-US" sz="2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house is 8 meters tall, how many millimeters tall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-304920" y="152388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213372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8880" y="35812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 rot="1608600">
            <a:off x="5257440" y="3047760"/>
            <a:ext cx="1828800" cy="5554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-228600" y="64008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58672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65530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71500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19920"/>
            <a:ext cx="26668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meters(mm) ta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-228600" y="609588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ike is 2 meters in length, how many centimeters long is it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3124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 rot="1649400">
            <a:off x="5079600" y="2925720"/>
            <a:ext cx="1143000" cy="520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04920" y="3657600"/>
            <a:ext cx="2895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meter = 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6400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58672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59436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5680" y="65530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019920"/>
            <a:ext cx="3505320" cy="53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meters(cm) lo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6553080"/>
            <a:ext cx="919440" cy="216000"/>
          </a:xfrm>
          <a:custGeom>
            <a:avLst/>
            <a:gdLst/>
            <a:ahLst/>
            <a:rect l="l" t="t" r="r" b="b"/>
            <a:pathLst>
              <a:path w="579" h="136">
                <a:moveTo>
                  <a:pt x="0" y="62"/>
                </a:moveTo>
                <a:cubicBezTo>
                  <a:pt x="7" y="67"/>
                  <a:pt x="14" y="70"/>
                  <a:pt x="20" y="76"/>
                </a:cubicBezTo>
                <a:cubicBezTo>
                  <a:pt x="26" y="82"/>
                  <a:pt x="27" y="92"/>
                  <a:pt x="34" y="96"/>
                </a:cubicBezTo>
                <a:cubicBezTo>
                  <a:pt x="46" y="104"/>
                  <a:pt x="75" y="110"/>
                  <a:pt x="75" y="110"/>
                </a:cubicBezTo>
                <a:cubicBezTo>
                  <a:pt x="180" y="105"/>
                  <a:pt x="228" y="132"/>
                  <a:pt x="260" y="42"/>
                </a:cubicBezTo>
                <a:cubicBezTo>
                  <a:pt x="264" y="48"/>
                  <a:pt x="304" y="94"/>
                  <a:pt x="308" y="96"/>
                </a:cubicBezTo>
                <a:cubicBezTo>
                  <a:pt x="330" y="110"/>
                  <a:pt x="370" y="117"/>
                  <a:pt x="397" y="124"/>
                </a:cubicBezTo>
                <a:cubicBezTo>
                  <a:pt x="437" y="121"/>
                  <a:pt x="493" y="136"/>
                  <a:pt x="514" y="103"/>
                </a:cubicBezTo>
                <a:cubicBezTo>
                  <a:pt x="579" y="0"/>
                  <a:pt x="508" y="85"/>
                  <a:pt x="534" y="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334120" y="655308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A paperclip weighs 7 grams, how many milligrams does it weigh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,0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 rot="1649400">
            <a:off x="5189040" y="2935080"/>
            <a:ext cx="1967040" cy="588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-228600" y="6248520"/>
            <a:ext cx="96012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61722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563868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52880" y="5638680"/>
            <a:ext cx="1371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49568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6324480"/>
            <a:ext cx="120816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715000" y="6324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5791320"/>
            <a:ext cx="21333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gra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Day 1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the metric system is based on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units of length, volume, and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onvert using the metric system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-15228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Volum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For breakfast, you drank 350 milliliters of orange juice, how many centiliters did you drink?</a:t>
            </a:r>
            <a:endParaRPr b="0" lang="en-US" sz="2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3124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315200" y="35812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5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0060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571500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41008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6477120"/>
            <a:ext cx="380880" cy="152280"/>
          </a:xfrm>
          <a:custGeom>
            <a:avLst/>
            <a:gdLst/>
            <a:ahLst/>
            <a:rect l="l" t="t" r="r" b="b"/>
            <a:pathLst>
              <a:path w="335" h="112">
                <a:moveTo>
                  <a:pt x="335" y="24"/>
                </a:moveTo>
                <a:cubicBezTo>
                  <a:pt x="315" y="37"/>
                  <a:pt x="290" y="60"/>
                  <a:pt x="268" y="67"/>
                </a:cubicBezTo>
                <a:cubicBezTo>
                  <a:pt x="238" y="112"/>
                  <a:pt x="177" y="88"/>
                  <a:pt x="128" y="85"/>
                </a:cubicBezTo>
                <a:cubicBezTo>
                  <a:pt x="98" y="81"/>
                  <a:pt x="72" y="76"/>
                  <a:pt x="43" y="67"/>
                </a:cubicBezTo>
                <a:cubicBezTo>
                  <a:pt x="27" y="50"/>
                  <a:pt x="28" y="38"/>
                  <a:pt x="7" y="24"/>
                </a:cubicBezTo>
                <a:cubicBezTo>
                  <a:pt x="0" y="4"/>
                  <a:pt x="1" y="12"/>
                  <a:pt x="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72200" y="5867280"/>
            <a:ext cx="28195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liters(c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ngth:</a:t>
            </a: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You drove 6500 meters on your way to school this morning, how many kilometers did you drive?</a:t>
            </a:r>
            <a:r>
              <a:rPr b="0" lang="en-US" sz="24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-304920" y="1219320"/>
            <a:ext cx="9829800" cy="50292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5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.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 rot="12321000">
            <a:off x="1828800" y="1447200"/>
            <a:ext cx="1773360" cy="5540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304920" y="3657600"/>
            <a:ext cx="281916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 kilometer = 1000 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0492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60199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4864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5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54864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800600" y="61722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61722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019920" y="61722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6386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29400" y="5715000"/>
            <a:ext cx="23623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meters(k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our backpack weighs 7 kilograms, how many grams does it weigh?</a:t>
            </a: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9829800" cy="48769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114800" y="2895480"/>
            <a:ext cx="838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Unit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r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9810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000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83808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 rot="1504200">
            <a:off x="2382480" y="1595520"/>
            <a:ext cx="1219320" cy="5540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-228600" y="6172200"/>
            <a:ext cx="9601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624852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5715000"/>
            <a:ext cx="2666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0000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5715000"/>
            <a:ext cx="1371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72000" y="64008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6400800"/>
            <a:ext cx="1207800" cy="217440"/>
          </a:xfrm>
          <a:custGeom>
            <a:avLst/>
            <a:gdLst/>
            <a:ahLst/>
            <a:rect l="l" t="t" r="r" b="b"/>
            <a:pathLst>
              <a:path w="761" h="137">
                <a:moveTo>
                  <a:pt x="0" y="54"/>
                </a:moveTo>
                <a:cubicBezTo>
                  <a:pt x="37" y="110"/>
                  <a:pt x="16" y="91"/>
                  <a:pt x="56" y="118"/>
                </a:cubicBezTo>
                <a:cubicBezTo>
                  <a:pt x="91" y="115"/>
                  <a:pt x="135" y="127"/>
                  <a:pt x="160" y="102"/>
                </a:cubicBezTo>
                <a:cubicBezTo>
                  <a:pt x="184" y="78"/>
                  <a:pt x="205" y="39"/>
                  <a:pt x="216" y="6"/>
                </a:cubicBezTo>
                <a:cubicBezTo>
                  <a:pt x="256" y="33"/>
                  <a:pt x="235" y="14"/>
                  <a:pt x="272" y="70"/>
                </a:cubicBezTo>
                <a:cubicBezTo>
                  <a:pt x="277" y="78"/>
                  <a:pt x="279" y="91"/>
                  <a:pt x="288" y="94"/>
                </a:cubicBezTo>
                <a:cubicBezTo>
                  <a:pt x="312" y="102"/>
                  <a:pt x="336" y="110"/>
                  <a:pt x="360" y="118"/>
                </a:cubicBezTo>
                <a:cubicBezTo>
                  <a:pt x="368" y="121"/>
                  <a:pt x="384" y="126"/>
                  <a:pt x="384" y="126"/>
                </a:cubicBezTo>
                <a:cubicBezTo>
                  <a:pt x="408" y="123"/>
                  <a:pt x="433" y="126"/>
                  <a:pt x="456" y="118"/>
                </a:cubicBezTo>
                <a:cubicBezTo>
                  <a:pt x="475" y="111"/>
                  <a:pt x="490" y="38"/>
                  <a:pt x="496" y="14"/>
                </a:cubicBezTo>
                <a:cubicBezTo>
                  <a:pt x="528" y="61"/>
                  <a:pt x="548" y="87"/>
                  <a:pt x="600" y="110"/>
                </a:cubicBezTo>
                <a:cubicBezTo>
                  <a:pt x="615" y="117"/>
                  <a:pt x="632" y="121"/>
                  <a:pt x="648" y="126"/>
                </a:cubicBezTo>
                <a:cubicBezTo>
                  <a:pt x="656" y="129"/>
                  <a:pt x="672" y="134"/>
                  <a:pt x="672" y="134"/>
                </a:cubicBezTo>
                <a:cubicBezTo>
                  <a:pt x="731" y="122"/>
                  <a:pt x="704" y="137"/>
                  <a:pt x="744" y="78"/>
                </a:cubicBezTo>
                <a:cubicBezTo>
                  <a:pt x="755" y="62"/>
                  <a:pt x="752" y="38"/>
                  <a:pt x="752" y="38"/>
                </a:cubicBezTo>
                <a:cubicBezTo>
                  <a:pt x="761" y="0"/>
                  <a:pt x="739" y="32"/>
                  <a:pt x="752" y="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91320" y="6400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5791320"/>
            <a:ext cx="2057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s(g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41911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se the metric conversion ladd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00 centimeters (c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1 kilometer (km) = ____ meters (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85800" y="-34920"/>
            <a:ext cx="807732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4266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000 milliLiters (mL) = _________ Liters (L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00 centigrams (cg) = __________ grams (g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458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1760" y="4648320"/>
            <a:ext cx="83818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.6 kilometers (km) = ___________ meters (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2 centimeters (cm) = ___________ millimeters (m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6012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ric system is a measurement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based on units or powers of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er measures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ma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measures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 km = _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00 mm = ______me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cm = 1 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010280" y="2590920"/>
            <a:ext cx="175284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162920" y="2743200"/>
            <a:ext cx="1411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ay 2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learn how to calculate volume by water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concept of density gi en mass and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you get into a hot tub, what happens to the water level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do you think is more dense, lead or wood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yard part of the Metric System or English (standards) System?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you were driving in Mexico or Canada, would you use miles per hour (MPH) or Kilometers per hour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 the yard part of the metric system or English(standards) system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you were driving in Mexico or Canada, would you use miles per hour (MPH) or Kilometers per hour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use Volume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en we want to find the capacity of something (how much liquid is insid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olume is measured is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61432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95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5181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simple shapes, like cubes and spheres, we can calculate them through basic m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example, to find the volume of a cube we measure the (Length x Width x Height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t, we'll let math class teach you tha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867360" y="3429000"/>
            <a:ext cx="1789200" cy="20574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400800" y="5537160"/>
            <a:ext cx="2209680" cy="13208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6553080" y="1295280"/>
            <a:ext cx="2210040" cy="2098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flipH="1">
            <a:off x="7391160" y="30481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213372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7009920" y="2819160"/>
            <a:ext cx="30492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2 ways we find volum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something has an irregular shape, how do we find the volume of it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other way we find volume is by displac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t's say we want to find the volume of a ro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ou can't exactly take out a ruler and measure it like you could a cube or triang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9243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re's how you do i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drop the rock into wa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viously, the water level will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by how much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amount it rises equals the volume of the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Volume by Displac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ubmerging the object will cause the water level to r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mount it rises, equals the volume of the rock in Lit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76640" cy="4362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Volume by Displacemen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763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 used to find volume of an ____shaped obj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the object, will cause the water level to r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mount it rises, equals the volume of the rock in_____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3294000" cy="35244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(s)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1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we mass something, we measure how much stuff (or matter) the object is made of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We find mass by weighing the ob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is measured i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175248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other words, who is made up of more stuff? You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s more mass? The earth or m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ric Syste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ete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sures length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Gra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sures ma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iter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s volum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1940040"/>
            <a:ext cx="1905120" cy="117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1971720" cy="1644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91440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to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density expression,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n object or substance is written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omin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   = 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=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or  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  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      volume        mL    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1" dur="2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how tightly matter is compac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s imagine we have 2 cubes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wever, now let us imagine that one cube is made of lead, and the other is made of Foa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both have the same size but which one is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re dens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2209680" y="4648320"/>
            <a:ext cx="4953240" cy="20415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 rot="2692200">
            <a:off x="1066680" y="495252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010280" y="39625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 rot="18855000">
            <a:off x="6786360" y="502416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3048120"/>
            <a:ext cx="213372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Lea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lead Cube is!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t why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ll, it all has to do with how much stuff is packed into the same amount of space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4952880" cy="20415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 rot="2692200">
            <a:off x="1066680" y="4114440"/>
            <a:ext cx="1371600" cy="5144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7010280" y="2971800"/>
            <a:ext cx="213372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cc"/>
                </a:solidFill>
                <a:uFillTx/>
                <a:latin typeface="Arial"/>
              </a:rPr>
              <a:t>Foa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 rot="18855000">
            <a:off x="6786360" y="4033440"/>
            <a:ext cx="144792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's look at these fish which are the same siz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 though they are the same size they all have different dens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all have the same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t, each fish has a different mas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419360" cy="295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038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ch fish has a different mass, therefore each has a different weigh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ason has to do with how much stuff (matter) is packed into the same amount of space or 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2955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 rot="16200000">
            <a:off x="4144680" y="3779640"/>
            <a:ext cx="1905120" cy="7462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3962520" y="5181480"/>
            <a:ext cx="236196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lea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more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5257800"/>
            <a:ext cx="236232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e wood fish has th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me volume, but, it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ontains less mat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therefore weigh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s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 rot="16200000">
            <a:off x="7269120" y="3855600"/>
            <a:ext cx="1904760" cy="74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how tightly matter is compacte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ompares the ____of an object to its _____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that mass is measured in ____ and volume is measured in ______ therefore the units of density are _____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D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mass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dfd293"/>
                </a:solidFill>
                <a:uFillTx/>
                <a:latin typeface="Arial"/>
              </a:rPr>
              <a:t>  g  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ffff99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 volume     mL       cm</a:t>
            </a:r>
            <a:r>
              <a:rPr b="0" lang="en-US" sz="2400" spc="-1" strike="noStrike" baseline="30000">
                <a:solidFill>
                  <a:srgbClr val="dfd29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e:  1 mL = 1 cm</a:t>
            </a:r>
            <a:r>
              <a:rPr b="0" i="1" lang="en-US" sz="24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 Black"/>
              </a:rPr>
              <a:t>What is Density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934320" y="2057400"/>
            <a:ext cx="20574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1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2514600" cy="4457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990720" y="1447920"/>
            <a:ext cx="5715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you had a cube, and each side was 1 cm, what would it’s volume be?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ngth x Width  x Heigh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w let’s imagine this cube is emp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w much water would it take to fill it up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x 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1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m</a:t>
            </a:r>
            <a:r>
              <a:rPr b="1" lang="en-US" sz="35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 it turns out, it takes 1 milliliter occupies 1 cubic centimeter or cm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, 1mL =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nice, because it makes the density of water is equal to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924680" y="3657600"/>
            <a:ext cx="10670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7010280" y="36576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010280" y="25905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ater and Densit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662640" cy="41004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1828800"/>
            <a:ext cx="3733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ter has a density of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sinks, it has a density greater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an object floats, it has a density less than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Density of Water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1752480"/>
            <a:ext cx="5639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ter has a density of___ g/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an object____, it has a density greater than 1and If an object_____, it has a density less than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219320" y="10666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934320" y="2286000"/>
            <a:ext cx="2057400" cy="32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86600" y="243828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Practice: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 object weighs 10 grams.  It has a volume of 5 mL.  What is it’s densit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81080" y="3581280"/>
            <a:ext cx="7010640" cy="2438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=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mass (g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=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  10g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= 2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/m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(mL)    5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      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 Stick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 rot="5095200">
            <a:off x="1825200" y="4651200"/>
            <a:ext cx="311040" cy="609480"/>
          </a:xfrm>
          <a:custGeom>
            <a:avLst/>
            <a:gdLst>
              <a:gd name="textAreaLeft" fmla="*/ 0 w 311040"/>
              <a:gd name="textAreaRight" fmla="*/ 112320 w 3110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89"/>
                </a:lnTo>
                <a:cubicBezTo>
                  <a:pt x="10800" y="10989"/>
                  <a:pt x="16200" y="11889"/>
                  <a:pt x="21600" y="11889"/>
                </a:cubicBezTo>
                <a:cubicBezTo>
                  <a:pt x="16200" y="11889"/>
                  <a:pt x="10800" y="12789"/>
                  <a:pt x="10800" y="136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257800"/>
            <a:ext cx="28195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37-38 = 1 cent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mill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145000">
            <a:off x="5333400" y="2362320"/>
            <a:ext cx="533160" cy="4647960"/>
          </a:xfrm>
          <a:custGeom>
            <a:avLst/>
            <a:gdLst>
              <a:gd name="textAreaLeft" fmla="*/ 0 w 533160"/>
              <a:gd name="textAreaRight" fmla="*/ 192600 w 53316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029200"/>
            <a:ext cx="2743200" cy="1371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40-50 = 1 deci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th 10 centimet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422800">
            <a:off x="990720" y="0"/>
            <a:ext cx="533160" cy="2651040"/>
          </a:xfrm>
          <a:custGeom>
            <a:avLst/>
            <a:gdLst>
              <a:gd name="textAreaLeft" fmla="*/ 0 w 533160"/>
              <a:gd name="textAreaRight" fmla="*/ 192600 w 533160"/>
              <a:gd name="textAreaTop" fmla="*/ 69120 h 2651040"/>
              <a:gd name="textAreaBottom" fmla="*/ 2581920 h 26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523880"/>
            <a:ext cx="266724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ere is one me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tick shrunken dow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Where is the air most dense? Closer or Farther from the surface??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94360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10058400" cy="6856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990720" y="914400"/>
            <a:ext cx="76960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Where is the population the most dense? East or West Coast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he least dense?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ast or West Coast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-380880" y="1981080"/>
            <a:ext cx="434340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2133720"/>
            <a:ext cx="4343400" cy="4190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lume by displacement is when we _____ an object to find it’s volum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the ____of an object to its 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ity = mass divided by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ts of density are in either g/cm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r _____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density of ____ is equal to 1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934320" y="2286000"/>
            <a:ext cx="205740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6600" y="2286000"/>
            <a:ext cx="1676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er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(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/m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opic: Science Basic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ctives: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ay 3 of 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understand the difference between an element and a molec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how different forms of energy and they are transferr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 will know the different layers of the ear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Unit:  Metrics and Densit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Quickwrit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1-2 sentences answer one of the questions below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es hot air rise or sink???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you get X-Rays at the Doctor’s office, why do you think they put a lead blanket over you???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, that is everything on earth and beyond is made of substances calle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em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is a substance that cannot be broken down into simpler substances by physical or chemical mea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usually combine with other elements to form compoun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4864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143000"/>
            <a:ext cx="3772080" cy="26416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tretch/>
        </p:blipFill>
        <p:spPr>
          <a:xfrm rot="17811000">
            <a:off x="4959360" y="3890520"/>
            <a:ext cx="1816200" cy="3142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6"/>
          <a:stretch/>
        </p:blipFill>
        <p:spPr>
          <a:xfrm>
            <a:off x="1066680" y="1371600"/>
            <a:ext cx="3438720" cy="4581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7"/>
          <a:stretch/>
        </p:blipFill>
        <p:spPr>
          <a:xfrm rot="10331400">
            <a:off x="3736080" y="2961720"/>
            <a:ext cx="2806920" cy="314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066680" y="13716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iamon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ure Carb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1143000"/>
            <a:ext cx="13716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u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6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16" name=""/>
          <p:cNvSpPr/>
          <p:nvPr/>
        </p:nvSpPr>
        <p:spPr>
          <a:xfrm>
            <a:off x="838080" y="1371600"/>
            <a:ext cx="5105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 comp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ter is a compound that forms between two elements– Hydrogen and oxy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t is a compound that forms between Sodium and Chlo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943600" y="990720"/>
            <a:ext cx="3048120" cy="20113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ompoun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1523880" y="129528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09480" y="2286000"/>
            <a:ext cx="1219320" cy="3096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 rot="11478600">
            <a:off x="5476680" y="2594880"/>
            <a:ext cx="2057400" cy="2998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2514600" y="20574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609480" y="3352680"/>
            <a:ext cx="2210040" cy="3096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 rot="10800000">
            <a:off x="5181480" y="3352680"/>
            <a:ext cx="2743200" cy="300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1523880" y="1295280"/>
            <a:ext cx="12956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4267080"/>
            <a:ext cx="129528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the difference between an Element and a Compound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678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ments are the ____substances that cannot be broken dow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n two or more elements bond with each other, we call it a_____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733920"/>
            <a:ext cx="3504960" cy="24019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228600" y="5791320"/>
            <a:ext cx="35053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Elemen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676440" cy="6145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1143000" y="1143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3962520" y="3581280"/>
            <a:ext cx="3581280" cy="29163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3962520" y="5791320"/>
            <a:ext cx="358128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e2a00"/>
                </a:solidFill>
                <a:latin typeface="Arial"/>
              </a:rPr>
              <a:t>Compound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What is the Metric System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easurement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ased on units or powers of 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133720"/>
            <a:ext cx="2057400" cy="297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2860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77240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e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energy that moves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What is Heat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nergy that ___ from an object with a higher temperature to an object with a lower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7010280" y="2819520"/>
            <a:ext cx="1447920" cy="259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162920" y="2819520"/>
            <a:ext cx="11509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onve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4267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vection is the transfer of heat by the flow of a heated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ly occurs with gases and liqu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762120" y="38095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0" name="" descr="An animation depicting convection curren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Conduct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86200" y="11426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96252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581280" y="1219320"/>
            <a:ext cx="586764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onduction and Heat Transf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 rot="1048200">
            <a:off x="4647960" y="1752480"/>
            <a:ext cx="3886200" cy="37274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724280" y="3429000"/>
            <a:ext cx="2438640" cy="558720"/>
          </a:xfrm>
          <a:custGeom>
            <a:avLst/>
            <a:gdLst/>
            <a:ahLst/>
            <a:rect l="l" t="t" r="r" b="b"/>
            <a:pathLst>
              <a:path w="1448" h="352">
                <a:moveTo>
                  <a:pt x="1448" y="96"/>
                </a:moveTo>
                <a:cubicBezTo>
                  <a:pt x="732" y="224"/>
                  <a:pt x="16" y="352"/>
                  <a:pt x="8" y="336"/>
                </a:cubicBezTo>
                <a:cubicBezTo>
                  <a:pt x="0" y="320"/>
                  <a:pt x="1168" y="56"/>
                  <a:pt x="1400" y="0"/>
                </a:cubicBezTo>
              </a:path>
            </a:pathLst>
          </a:cu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3581280" y="358128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rot="21021600">
            <a:off x="3962520" y="2590560"/>
            <a:ext cx="2438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Flow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724280" y="3047760"/>
            <a:ext cx="22100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1371600"/>
            <a:ext cx="2971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uction is the transfer of heat that occurs when molecules bump into one ano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What’s the difference between Convection and Conduction?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429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duction is the transfer of energy that occurs when molecules ___ into one anoth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s the transfer of heat by the ____ of 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mater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3048120" cy="269388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10447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An animation depicting convection current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417204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6201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7724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adi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171840" y="17521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other way energy is transferred is by radi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ergy transfer through space by electromagnetic waves in the form of visible light, Ultraviolet, X-rays, and gamma wa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6019920" y="228600"/>
            <a:ext cx="163836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4" name="ShockwaveFlash1"/>
          <p:cNvGraphicFramePr/>
          <p:nvPr/>
        </p:nvGraphicFramePr>
        <p:xfrm>
          <a:off x="533520" y="1219320"/>
          <a:ext cx="5333760" cy="548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5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219320"/>
                    <a:ext cx="5333760" cy="548640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is Radiation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transfer through space by in the form of 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: visible light, Ultraviolet, X-rays, and gamma wa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7391520" y="2209680"/>
            <a:ext cx="144756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-228600" y="-152280"/>
            <a:ext cx="167652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7696080" cy="686916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arth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5" name=""/>
          <p:cNvSpPr/>
          <p:nvPr/>
        </p:nvSpPr>
        <p:spPr>
          <a:xfrm>
            <a:off x="3200400" y="2590920"/>
            <a:ext cx="1371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1981080"/>
            <a:ext cx="1447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lten rock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9320" y="1143000"/>
            <a:ext cx="144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hin rocky outer layer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066320" y="4419720"/>
            <a:ext cx="38124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39880" y="152280"/>
            <a:ext cx="3568680" cy="6453360"/>
          </a:xfrm>
          <a:custGeom>
            <a:avLst/>
            <a:gdLst/>
            <a:ahLst/>
            <a:rect l="l" t="t" r="r" b="b"/>
            <a:pathLst>
              <a:path w="2248" h="4065">
                <a:moveTo>
                  <a:pt x="2172" y="4063"/>
                </a:moveTo>
                <a:cubicBezTo>
                  <a:pt x="2126" y="4060"/>
                  <a:pt x="2022" y="4065"/>
                  <a:pt x="1896" y="4040"/>
                </a:cubicBezTo>
                <a:cubicBezTo>
                  <a:pt x="1770" y="4015"/>
                  <a:pt x="1550" y="3960"/>
                  <a:pt x="1414" y="3912"/>
                </a:cubicBezTo>
                <a:cubicBezTo>
                  <a:pt x="1278" y="3864"/>
                  <a:pt x="1192" y="3819"/>
                  <a:pt x="1080" y="3752"/>
                </a:cubicBezTo>
                <a:cubicBezTo>
                  <a:pt x="968" y="3685"/>
                  <a:pt x="840" y="3592"/>
                  <a:pt x="744" y="3512"/>
                </a:cubicBezTo>
                <a:cubicBezTo>
                  <a:pt x="648" y="3432"/>
                  <a:pt x="579" y="3360"/>
                  <a:pt x="504" y="3272"/>
                </a:cubicBezTo>
                <a:cubicBezTo>
                  <a:pt x="429" y="3184"/>
                  <a:pt x="350" y="3078"/>
                  <a:pt x="292" y="2984"/>
                </a:cubicBezTo>
                <a:cubicBezTo>
                  <a:pt x="234" y="2890"/>
                  <a:pt x="196" y="2824"/>
                  <a:pt x="153" y="2705"/>
                </a:cubicBezTo>
                <a:cubicBezTo>
                  <a:pt x="110" y="2586"/>
                  <a:pt x="54" y="2418"/>
                  <a:pt x="32" y="2269"/>
                </a:cubicBezTo>
                <a:cubicBezTo>
                  <a:pt x="10" y="2120"/>
                  <a:pt x="0" y="1960"/>
                  <a:pt x="20" y="1808"/>
                </a:cubicBezTo>
                <a:cubicBezTo>
                  <a:pt x="40" y="1656"/>
                  <a:pt x="100" y="1492"/>
                  <a:pt x="153" y="1359"/>
                </a:cubicBezTo>
                <a:cubicBezTo>
                  <a:pt x="206" y="1226"/>
                  <a:pt x="267" y="1120"/>
                  <a:pt x="341" y="1007"/>
                </a:cubicBezTo>
                <a:cubicBezTo>
                  <a:pt x="415" y="894"/>
                  <a:pt x="501" y="782"/>
                  <a:pt x="600" y="680"/>
                </a:cubicBezTo>
                <a:cubicBezTo>
                  <a:pt x="699" y="578"/>
                  <a:pt x="825" y="469"/>
                  <a:pt x="936" y="392"/>
                </a:cubicBezTo>
                <a:cubicBezTo>
                  <a:pt x="1047" y="315"/>
                  <a:pt x="1151" y="267"/>
                  <a:pt x="1269" y="219"/>
                </a:cubicBezTo>
                <a:cubicBezTo>
                  <a:pt x="1387" y="171"/>
                  <a:pt x="1549" y="131"/>
                  <a:pt x="1645" y="104"/>
                </a:cubicBezTo>
                <a:cubicBezTo>
                  <a:pt x="1741" y="77"/>
                  <a:pt x="1758" y="72"/>
                  <a:pt x="1848" y="56"/>
                </a:cubicBezTo>
                <a:cubicBezTo>
                  <a:pt x="1938" y="40"/>
                  <a:pt x="2120" y="16"/>
                  <a:pt x="2184" y="8"/>
                </a:cubicBezTo>
                <a:cubicBezTo>
                  <a:pt x="2248" y="0"/>
                  <a:pt x="2224" y="8"/>
                  <a:pt x="2232" y="8"/>
                </a:cubicBezTo>
              </a:path>
            </a:pathLst>
          </a:custGeom>
          <a:noFill/>
          <a:ln w="117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280" y="57913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se layer made up of the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ust and upper mantl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8974400">
            <a:off x="2371320" y="5208120"/>
            <a:ext cx="3808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209680" y="56386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495680" y="297180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3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What are the layers of the earth?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Inn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lid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Outer co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____ ir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Mant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 molten r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Crus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thin rocky outer lay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nse part made u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f the ____ and outer mant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2209680"/>
            <a:ext cx="144792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96080" y="2209680"/>
            <a:ext cx="1150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mp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772400" cy="42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832560" y="921600"/>
            <a:ext cx="4765320" cy="4867200"/>
            <a:chOff x="3832560" y="921600"/>
            <a:chExt cx="4765320" cy="4867200"/>
          </a:xfrm>
        </p:grpSpPr>
        <p:sp>
          <p:nvSpPr>
            <p:cNvPr id="110" name=""/>
            <p:cNvSpPr/>
            <p:nvPr/>
          </p:nvSpPr>
          <p:spPr>
            <a:xfrm>
              <a:off x="3848040" y="921600"/>
              <a:ext cx="4749840" cy="701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25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34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739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48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53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62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567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276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9816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9040" y="2349000"/>
              <a:ext cx="47052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2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75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18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1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3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6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89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32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74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17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0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03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5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8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1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74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17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0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2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4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8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31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73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16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9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2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5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8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30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73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6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59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2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44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7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3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5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8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1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44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7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29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2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5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58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01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43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86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29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72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4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7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00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43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6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9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14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57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429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85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28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1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14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567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996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424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5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8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0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13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62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991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19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4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7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70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13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558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86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14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43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27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70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12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5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81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410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38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266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69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12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5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98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405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33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262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690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18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54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97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40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83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2572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6856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1140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5424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97080" y="3550680"/>
              <a:ext cx="4248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48040" y="5018040"/>
              <a:ext cx="4749840" cy="770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14400" y="762120"/>
            <a:ext cx="2933640" cy="1371600"/>
          </a:xfrm>
          <a:prstGeom prst="rightArrowCallout">
            <a:avLst>
              <a:gd name="adj1" fmla="val 27086"/>
              <a:gd name="adj2" fmla="val 25000"/>
              <a:gd name="adj3" fmla="val 29280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1 me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member 1 meter is much larger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133720"/>
            <a:ext cx="2933640" cy="1143000"/>
          </a:xfrm>
          <a:prstGeom prst="rightArrowCallout">
            <a:avLst>
              <a:gd name="adj1" fmla="val 27086"/>
              <a:gd name="adj2" fmla="val 23611"/>
              <a:gd name="adj3" fmla="val 35136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dec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276720"/>
            <a:ext cx="2933640" cy="1447560"/>
          </a:xfrm>
          <a:prstGeom prst="rightArrowCallout">
            <a:avLst>
              <a:gd name="adj1" fmla="val 19891"/>
              <a:gd name="adj2" fmla="val 20074"/>
              <a:gd name="adj3" fmla="val 27688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cent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572000"/>
            <a:ext cx="2933640" cy="1447920"/>
          </a:xfrm>
          <a:prstGeom prst="rightArrowCallout">
            <a:avLst>
              <a:gd name="adj1" fmla="val 19891"/>
              <a:gd name="adj2" fmla="val 20074"/>
              <a:gd name="adj3" fmla="val 27681"/>
              <a:gd name="adj4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 =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millime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ivide by powers of 10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p:transition spd="slow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ummarize: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implest substances on earth are called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combine with other elements to form 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 is the transfer of heat by the flow of a mater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aw and labe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4343400" cy="30812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7543800" y="1295280"/>
            <a:ext cx="1447920" cy="221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696080" y="1295280"/>
            <a:ext cx="115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Basic Units of the </a:t>
            </a:r>
            <a:br>
              <a:rPr sz="3200"/>
            </a:b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Metric System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ass or weigh something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measure distance or length, we use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of how much space an object takes up and is measured by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et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is used to measure length and dist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lometer is a 1000 meters and is similar in length to the mi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8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4:05:52Z</dcterms:created>
  <dc:creator>MGJ</dc:creator>
  <dc:description/>
  <dc:language>en-US</dc:language>
  <cp:lastModifiedBy>jfuller</cp:lastModifiedBy>
  <dcterms:modified xsi:type="dcterms:W3CDTF">2012-01-11T18:32:10Z</dcterms:modified>
  <cp:revision>107</cp:revision>
  <dc:subject/>
  <dc:title>The Metric System</dc:title>
</cp:coreProperties>
</file>